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41.wmf" ContentType="image/x-wmf"/>
  <Override PartName="/ppt/media/image40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02B-08E8-4649-91D4-FDB7E5D3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A5B-C3C8-474C-8A33-C3FE0A0A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4B7-230C-47A2-9FBF-679C9537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821-1676-43E6-8B5B-49896FBE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686C-6A36-4E36-91A4-C92E6745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889D-0867-4B8A-9DC9-299A120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B1C-607A-452C-BDA4-CEF974B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5DA-8EEB-477A-8013-B78C2B4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D2B-A100-4BBF-A429-0BE848C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E20-87EA-4EAE-AB6E-5031D41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ABE-BD12-4125-9015-834B368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BC8-F45C-4228-84B5-08634F3D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31CF-1A3C-4980-BF14-572B13C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6A85-1E52-4DCE-A7D4-A868AAC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7F94-6931-4863-A027-A6214F2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B7C4-00A6-43F4-9FCD-A937925B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9A4A-CCB9-4025-B701-A3CF0829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ACA-0529-4E67-818D-78ABD15A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EEA-008D-49DE-97DE-3C716094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434-C10B-4E07-B712-A24850D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087-1E3E-457F-B848-A2936817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FB1-4178-43FB-9A69-EF0C64D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774-A4FF-46BA-8AA2-E4C2799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B75-FFD9-4348-B044-BDAC8E7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62D0-5DFB-48AC-953A-AAA8A4F332D6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934-54C5-4C9D-888E-3C5CD6B26431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1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ing Viewpoint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1143000"/>
            <a:ext cx="52578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reaction to developmental process may affect personal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maturation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 males often results in self confidence and leadership attribut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maturation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 females may result in embarrassment and domination of peer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0e929"/>
                </a:solidFill>
                <a:latin typeface="Times New Roman"/>
              </a:rPr>
              <a:t>Self-fulfilling prophecy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theorizes that teens adjust their personality to fit maturation imag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78" name="pe03731_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200400" cy="2589480"/>
          </a:xfrm>
          <a:prstGeom prst="rect">
            <a:avLst/>
          </a:prstGeom>
          <a:ln w="0">
            <a:noFill/>
          </a:ln>
        </p:spPr>
      </p:pic>
      <p:pic>
        <p:nvPicPr>
          <p:cNvPr id="179" name="sy01080_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47500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040" y="1108080"/>
            <a:ext cx="786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914400"/>
            <a:ext cx="82296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What females look for in males (American sample):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ractive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bility to hold a conversatio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What males looks for in females (American sample):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ractive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Friendli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1932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Eating Disorders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re caused by societal pressures combined with puber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Anorexia Nervosa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ypically middle class or better (more often white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Weigh less than 85% of “normal” weight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Healthy diet” gone overboar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Bulimia Nervosa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Binge eating to guilt to drastic removal of f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Vomiting, fasting, strict dieting, vigorous exercis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83822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Cause(s) of Eating Disorders?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empt to return to pre-puberty body type (avoid “growing up”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deal body” portrayed by media (fashion models 9% taller and 16% slimmer than the average woman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Parental problems with dieting and eating tend to judge adolescents harsher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t may also be genetic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143000"/>
            <a:ext cx="495288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thought patterns also change, becoming mor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stract and introspectiv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motions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often becom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powering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nd dealt with through rationalizatio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Better educated adolescents and cultures are more able to control intense emotion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al thinking continues to develop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nd is linked to a teen’s relationship with parent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89" name="teenidols_dawsoncreek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267080" cy="2895480"/>
          </a:xfrm>
          <a:prstGeom prst="rect">
            <a:avLst/>
          </a:prstGeom>
          <a:ln w="0">
            <a:noFill/>
          </a:ln>
        </p:spPr>
      </p:pic>
      <p:pic>
        <p:nvPicPr>
          <p:cNvPr id="190" name="an02354_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6064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990720"/>
            <a:ext cx="632448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sychologist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Eric Ericson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theorizes that building a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dentity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s critical task for teen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Identity Crisi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a time of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“storm and stress”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n which teens worry about who they are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ainful process as teens try to feel “unique” on one hand and “to fit in” on the other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Some psychologists disagree with Ericson, believing in a smooth adolescent proces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93" name="bd05111_" descr=""/>
          <p:cNvPicPr/>
          <p:nvPr/>
        </p:nvPicPr>
        <p:blipFill>
          <a:blip r:embed="rId1"/>
          <a:stretch/>
        </p:blipFill>
        <p:spPr>
          <a:xfrm>
            <a:off x="7923240" y="533520"/>
            <a:ext cx="1220760" cy="2280960"/>
          </a:xfrm>
          <a:prstGeom prst="rect">
            <a:avLst/>
          </a:prstGeom>
          <a:ln w="0">
            <a:noFill/>
          </a:ln>
        </p:spPr>
      </p:pic>
      <p:pic>
        <p:nvPicPr>
          <p:cNvPr id="194" name="EN00500_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217960" cy="2093760"/>
          </a:xfrm>
          <a:prstGeom prst="rect">
            <a:avLst/>
          </a:prstGeom>
          <a:ln w="0">
            <a:noFill/>
          </a:ln>
        </p:spPr>
      </p:pic>
      <p:pic>
        <p:nvPicPr>
          <p:cNvPr id="195" name="bd05106_" descr=""/>
          <p:cNvPicPr/>
          <p:nvPr/>
        </p:nvPicPr>
        <p:blipFill>
          <a:blip r:embed="rId3"/>
          <a:stretch/>
        </p:blipFill>
        <p:spPr>
          <a:xfrm>
            <a:off x="7620120" y="4859280"/>
            <a:ext cx="1523880" cy="1998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49320" y="1523880"/>
            <a:ext cx="5994000" cy="5086080"/>
            <a:chOff x="-49320" y="1523880"/>
            <a:chExt cx="5994000" cy="5086080"/>
          </a:xfrm>
        </p:grpSpPr>
        <p:sp>
          <p:nvSpPr>
            <p:cNvPr id="198" name=""/>
            <p:cNvSpPr/>
            <p:nvPr/>
          </p:nvSpPr>
          <p:spPr>
            <a:xfrm>
              <a:off x="1904040" y="1523880"/>
              <a:ext cx="762840" cy="46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7000" y="1803960"/>
              <a:ext cx="0" cy="419616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7000" y="1803960"/>
              <a:ext cx="3307680" cy="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37000" y="522288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37000" y="444564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37000" y="366876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37000" y="289152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37000" y="211428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2280" y="2891520"/>
              <a:ext cx="287640" cy="31082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7200" y="4212360"/>
              <a:ext cx="287280" cy="178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1760" y="5067360"/>
              <a:ext cx="287640" cy="932400"/>
            </a:xfrm>
            <a:prstGeom prst="rect">
              <a:avLst/>
            </a:prstGeom>
            <a:solidFill>
              <a:srgbClr val="a7c1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3760" y="5967360"/>
              <a:ext cx="29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 to 4      5 to 8      9 to 11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Ages of child in yea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49320" y="2038320"/>
              <a:ext cx="176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Percent with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positive, warm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interaction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with parent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37000" y="6000120"/>
              <a:ext cx="3307680" cy="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019920" y="1981080"/>
            <a:ext cx="3124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arlier maturation and higher education has extended the time between puberty and independenc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ransition from adolescence to adulthood is taking longer toda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8e2"/>
                </a:solidFill>
                <a:latin typeface="Arial Narrow"/>
              </a:rPr>
              <a:t>Romantic Relationship Theories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reate a theory of how romantic relationships develop and proce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at milestones lead to an evolving relationship and what can “kill” a relationship at various stages?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You may list/describe stages, draw a flow diagram, or identify general processes that occu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all result should be one to two pag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3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 Developmen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838080"/>
            <a:ext cx="6019920" cy="59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Adolescent sexual attitudes vary widely around the world and between generation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xual identity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s determined by a person’s physical attributes (Penis = Male, Vagina = Female)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x Role: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How society says a person is supposed to behave based on sexual identity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Stereotypes historically depict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men as dominant, competitive, and reserved / females as submissive, cooperative, and emotional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19" name="in01084_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2143080" cy="2590920"/>
          </a:xfrm>
          <a:prstGeom prst="rect">
            <a:avLst/>
          </a:prstGeom>
          <a:ln w="0">
            <a:noFill/>
          </a:ln>
        </p:spPr>
      </p:pic>
      <p:pic>
        <p:nvPicPr>
          <p:cNvPr id="220" name="bd05619_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425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6400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ults, psychologists and adolescents view adolescent behavior differentl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ults often admire teen values, energy, music, and activiti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adults feel threatened by teens or regret their own loss of youthful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Different ideas on morality often leads adults to have negative feelings toward some teenager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93" name="bd06328_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1801800" cy="2216160"/>
          </a:xfrm>
          <a:prstGeom prst="rect">
            <a:avLst/>
          </a:prstGeom>
          <a:ln w="0">
            <a:noFill/>
          </a:ln>
        </p:spPr>
      </p:pic>
      <p:pic>
        <p:nvPicPr>
          <p:cNvPr id="94" name="bd05412_" descr=""/>
          <p:cNvPicPr/>
          <p:nvPr/>
        </p:nvPicPr>
        <p:blipFill>
          <a:blip r:embed="rId2"/>
          <a:stretch/>
        </p:blipFill>
        <p:spPr>
          <a:xfrm>
            <a:off x="6708600" y="3886200"/>
            <a:ext cx="24354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295280"/>
            <a:ext cx="480060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rogynous Role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 flexible combination of traditional male and female characteristic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Androgynous roles are becoming an accepted ideal in modern cultur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22" name="bd05495_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884760" cy="3892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aits survey given to 1,500 Stanford Univ. student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750 (50%) matched their role and gend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225 (14%) matched roles of the other gend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540 (36%) were “androgynous”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191120" y="1527120"/>
          <a:ext cx="482580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7120"/>
                    <a:ext cx="482580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990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8e2"/>
                </a:solidFill>
                <a:latin typeface="Times New Roman"/>
              </a:rPr>
              <a:t>Bem Sex Role Inventory (1975)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371600"/>
            <a:ext cx="487692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amily Role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Changes for adolescents as they progress toward total independence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he way in which teens seek independence depends on the parent/child relationship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0" name="bd07218_" descr=""/>
          <p:cNvPicPr/>
          <p:nvPr/>
        </p:nvPicPr>
        <p:blipFill>
          <a:blip r:embed="rId1"/>
          <a:stretch/>
        </p:blipFill>
        <p:spPr>
          <a:xfrm>
            <a:off x="5310360" y="1447920"/>
            <a:ext cx="3452760" cy="4419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1295280"/>
            <a:ext cx="5029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uthoritarian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re the “bosses” and don’t allow children to question their authority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 tends to grow up resenting all authority and often rebel without obvious cause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3" name="bd06098_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1807920" cy="2281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133360" cy="1596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1371600"/>
            <a:ext cx="57150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emocratic Parents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llow child to discuss/negotiate in decisions affecting their liv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grow up more confident, responsible, mature, and able to handle independence</a:t>
            </a:r>
            <a:r>
              <a:rPr b="0" lang="en-US" sz="20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7" name="sy00629_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66544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1143000"/>
            <a:ext cx="868680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ermissive/Laissez-Faire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llow child to have final say, with few (if any) rul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feel unwanted, unloved,  aggressive, and doubt their own self worth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40" name="ph02025j" descr=""/>
          <p:cNvPicPr/>
          <p:nvPr/>
        </p:nvPicPr>
        <p:blipFill>
          <a:blip r:embed="rId1"/>
          <a:stretch/>
        </p:blipFill>
        <p:spPr>
          <a:xfrm>
            <a:off x="380880" y="4497480"/>
            <a:ext cx="3276720" cy="2155680"/>
          </a:xfrm>
          <a:prstGeom prst="rect">
            <a:avLst/>
          </a:prstGeom>
          <a:ln w="0">
            <a:noFill/>
          </a:ln>
        </p:spPr>
      </p:pic>
      <p:pic>
        <p:nvPicPr>
          <p:cNvPr id="241" name="pe03717_" descr=""/>
          <p:cNvPicPr/>
          <p:nvPr/>
        </p:nvPicPr>
        <p:blipFill>
          <a:blip r:embed="rId2"/>
          <a:stretch/>
        </p:blipFill>
        <p:spPr>
          <a:xfrm>
            <a:off x="5334120" y="4272120"/>
            <a:ext cx="2743200" cy="2585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143000"/>
            <a:ext cx="86868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ninvolved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Self-centered child rearing, uncommitted to role/distant from child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be more aggressive and have both lower self-esteem and poor control over impuls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295280"/>
            <a:ext cx="426744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arental/Teen conflict may occur in all familie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Females have more parental conflict than male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Larger families lead to more conflic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581280" cy="2732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22400" cy="212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1295280"/>
            <a:ext cx="601992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en Conformity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(peer pressure) results from a fear of being disliked by other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iques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re important to teen identity and tend to form along social class lin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choose friends with values close to their own family’s valu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994360" y="17524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295280"/>
            <a:ext cx="861084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at type of cliques exist in High School?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o do you “hang-out” with?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Depends on gender (early on) and economic clas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Likes = well-groomed, good-looking, outgoing, neat, fun, accepting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Dislikes = irresponsible, sloppy, childish, shy and lonely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19320"/>
            <a:ext cx="6629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s tend to view themselves the way they think adults see them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eens tend to either over-idealize or hold overly negative views about themselv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18640" y="304920"/>
            <a:ext cx="112536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E01562_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2787480" cy="2935440"/>
          </a:xfrm>
          <a:prstGeom prst="rect">
            <a:avLst/>
          </a:prstGeom>
          <a:ln w="0">
            <a:noFill/>
          </a:ln>
        </p:spPr>
      </p:pic>
      <p:pic>
        <p:nvPicPr>
          <p:cNvPr id="98" name="PE01659_" descr=""/>
          <p:cNvPicPr/>
          <p:nvPr/>
        </p:nvPicPr>
        <p:blipFill>
          <a:blip r:embed="rId3"/>
          <a:stretch/>
        </p:blipFill>
        <p:spPr>
          <a:xfrm>
            <a:off x="304920" y="3335400"/>
            <a:ext cx="2971800" cy="2643120"/>
          </a:xfrm>
          <a:prstGeom prst="rect">
            <a:avLst/>
          </a:prstGeom>
          <a:ln w="0">
            <a:noFill/>
          </a:ln>
        </p:spPr>
      </p:pic>
      <p:pic>
        <p:nvPicPr>
          <p:cNvPr id="99" name="BD00017_" descr=""/>
          <p:cNvPicPr/>
          <p:nvPr/>
        </p:nvPicPr>
        <p:blipFill>
          <a:blip r:embed="rId4"/>
          <a:stretch/>
        </p:blipFill>
        <p:spPr>
          <a:xfrm>
            <a:off x="7381800" y="1905120"/>
            <a:ext cx="1492200" cy="421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21932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any teens experience an illusion of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invulnerability leading to risk-taking behavior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5" name="bd07199_" descr=""/>
          <p:cNvPicPr/>
          <p:nvPr/>
        </p:nvPicPr>
        <p:blipFill>
          <a:blip r:embed="rId1"/>
          <a:stretch/>
        </p:blipFill>
        <p:spPr>
          <a:xfrm>
            <a:off x="6443640" y="990720"/>
            <a:ext cx="2281320" cy="2514600"/>
          </a:xfrm>
          <a:prstGeom prst="rect">
            <a:avLst/>
          </a:prstGeom>
          <a:ln w="0">
            <a:noFill/>
          </a:ln>
        </p:spPr>
      </p:pic>
      <p:pic>
        <p:nvPicPr>
          <p:cNvPr id="256" name="pe00542_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2624040" cy="2666880"/>
          </a:xfrm>
          <a:prstGeom prst="rect">
            <a:avLst/>
          </a:prstGeom>
          <a:ln w="0">
            <a:noFill/>
          </a:ln>
        </p:spPr>
      </p:pic>
      <p:pic>
        <p:nvPicPr>
          <p:cNvPr id="257" name="pe01519_" descr=""/>
          <p:cNvPicPr/>
          <p:nvPr/>
        </p:nvPicPr>
        <p:blipFill>
          <a:blip r:embed="rId3"/>
          <a:stretch/>
        </p:blipFill>
        <p:spPr>
          <a:xfrm>
            <a:off x="0" y="3967200"/>
            <a:ext cx="3124080" cy="2890800"/>
          </a:xfrm>
          <a:prstGeom prst="rect">
            <a:avLst/>
          </a:prstGeom>
          <a:ln w="0">
            <a:noFill/>
          </a:ln>
        </p:spPr>
      </p:pic>
      <p:pic>
        <p:nvPicPr>
          <p:cNvPr id="258" name="pe07423_" descr=""/>
          <p:cNvPicPr/>
          <p:nvPr/>
        </p:nvPicPr>
        <p:blipFill>
          <a:blip r:embed="rId4"/>
          <a:stretch/>
        </p:blipFill>
        <p:spPr>
          <a:xfrm>
            <a:off x="6553080" y="3643200"/>
            <a:ext cx="2430720" cy="3214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9144000" cy="65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What Adolescents Need and Want From Their Parent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Take an Interes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in their activities.  Be available when they need help/support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Listen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o what teenagers say. Try to understand their point of vie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3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ommunicate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with their children. Talk </a:t>
            </a:r>
            <a:r>
              <a:rPr b="0" lang="en-US" sz="2400" spc="-1" strike="noStrike" u="sng">
                <a:solidFill>
                  <a:srgbClr val="eae8e2"/>
                </a:solidFill>
                <a:uFillTx/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eenagers but not </a:t>
            </a:r>
            <a:r>
              <a:rPr b="0" lang="en-US" sz="2400" spc="-1" strike="noStrike" u="sng">
                <a:solidFill>
                  <a:srgbClr val="eae8e2"/>
                </a:solidFill>
                <a:uFillTx/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m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4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Love and Accep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m as they are. Do not make teens feel rejected and worthless because they can’t meet parents expectation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5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Trust and Respec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ir privacy. Teens resent parents who open their mail, read their diaries, or eavesdrop on conversation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6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Allow Independence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by giving leeway in choice of friends, music and clothes. Independence should be increased as they can handle it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7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Not be Too Strict or Too Permissive.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 Family rules should be democratic and parents should be consistent in enforcing them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066680"/>
            <a:ext cx="579132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ce is often a period of intense individual search for ident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psychologists (Stanley Hall) theorize that adolescence is a time of animalistic “storm and stress”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theorists (Margaret Meade) believe adolescence is an enjoyable progression to adulth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02" name="EN00349_" descr=""/>
          <p:cNvPicPr/>
          <p:nvPr/>
        </p:nvPicPr>
        <p:blipFill>
          <a:blip r:embed="rId1"/>
          <a:stretch/>
        </p:blipFill>
        <p:spPr>
          <a:xfrm>
            <a:off x="0" y="4876920"/>
            <a:ext cx="2895480" cy="1635120"/>
          </a:xfrm>
          <a:prstGeom prst="rect">
            <a:avLst/>
          </a:prstGeom>
          <a:ln w="0">
            <a:noFill/>
          </a:ln>
        </p:spPr>
      </p:pic>
      <p:pic>
        <p:nvPicPr>
          <p:cNvPr id="103" name="PE01000_" descr=""/>
          <p:cNvPicPr/>
          <p:nvPr/>
        </p:nvPicPr>
        <p:blipFill>
          <a:blip r:embed="rId2"/>
          <a:stretch/>
        </p:blipFill>
        <p:spPr>
          <a:xfrm>
            <a:off x="3673440" y="4495680"/>
            <a:ext cx="1225440" cy="2049480"/>
          </a:xfrm>
          <a:prstGeom prst="rect">
            <a:avLst/>
          </a:prstGeom>
          <a:ln w="0">
            <a:noFill/>
          </a:ln>
        </p:spPr>
      </p:pic>
      <p:pic>
        <p:nvPicPr>
          <p:cNvPr id="104" name="BD00010_" descr=""/>
          <p:cNvPicPr/>
          <p:nvPr/>
        </p:nvPicPr>
        <p:blipFill>
          <a:blip r:embed="rId3"/>
          <a:stretch/>
        </p:blipFill>
        <p:spPr>
          <a:xfrm>
            <a:off x="8253360" y="3048120"/>
            <a:ext cx="890640" cy="3411360"/>
          </a:xfrm>
          <a:prstGeom prst="rect">
            <a:avLst/>
          </a:prstGeom>
          <a:ln w="0">
            <a:noFill/>
          </a:ln>
        </p:spPr>
      </p:pic>
      <p:pic>
        <p:nvPicPr>
          <p:cNvPr id="105" name="PE01023_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06" name="BD06790_" descr=""/>
          <p:cNvPicPr/>
          <p:nvPr/>
        </p:nvPicPr>
        <p:blipFill>
          <a:blip r:embed="rId5"/>
          <a:stretch/>
        </p:blipFill>
        <p:spPr>
          <a:xfrm>
            <a:off x="6858000" y="304920"/>
            <a:ext cx="1965240" cy="1623960"/>
          </a:xfrm>
          <a:prstGeom prst="rect">
            <a:avLst/>
          </a:prstGeom>
          <a:ln w="0">
            <a:noFill/>
          </a:ln>
        </p:spPr>
      </p:pic>
      <p:pic>
        <p:nvPicPr>
          <p:cNvPr id="107" name="PE03166_" descr=""/>
          <p:cNvPicPr/>
          <p:nvPr/>
        </p:nvPicPr>
        <p:blipFill>
          <a:blip r:embed="rId6"/>
          <a:stretch/>
        </p:blipFill>
        <p:spPr>
          <a:xfrm>
            <a:off x="6400800" y="2362320"/>
            <a:ext cx="1806480" cy="1904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304920"/>
            <a:ext cx="49532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Developmental Checklist of Adolescence</a:t>
            </a:r>
            <a:br>
              <a:rPr sz="4000"/>
            </a:b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(Havighurst, 1972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ccepting one’s physical make-up (sex roles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veloping appropriate relations with agemates of both sex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ecoming emotionally independent of parents/adult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chieving assurance of economic independen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iding on, preparing for, and entering a voc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veloping cognitive skills and concepts for social competen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nderstanding and achieving socially responsible behavi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eparing for marriage and famil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678168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s face developmental challenges with success dependent on past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Develop their sexual relationships &amp; identity, independence, vocation, marriage, moral and social valu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ransition to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dulthood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volves changes in reasoning, morality, and personal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2" name="bd06200_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022480" cy="2065320"/>
          </a:xfrm>
          <a:prstGeom prst="rect">
            <a:avLst/>
          </a:prstGeom>
          <a:ln w="0">
            <a:noFill/>
          </a:ln>
        </p:spPr>
      </p:pic>
      <p:pic>
        <p:nvPicPr>
          <p:cNvPr id="113" name="bd00395_" descr=""/>
          <p:cNvPicPr/>
          <p:nvPr/>
        </p:nvPicPr>
        <p:blipFill>
          <a:blip r:embed="rId2"/>
          <a:stretch/>
        </p:blipFill>
        <p:spPr>
          <a:xfrm>
            <a:off x="3429000" y="4495680"/>
            <a:ext cx="2049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bd00146_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213228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bd05560_" descr=""/>
          <p:cNvPicPr/>
          <p:nvPr/>
        </p:nvPicPr>
        <p:blipFill>
          <a:blip r:embed="rId4"/>
          <a:stretch/>
        </p:blipFill>
        <p:spPr>
          <a:xfrm>
            <a:off x="6888240" y="1219320"/>
            <a:ext cx="225576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2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logical &amp; Physical Developmen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143000"/>
            <a:ext cx="487656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uberty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Sexual maturation that marks the end of childh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enarche:</a:t>
            </a: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Female menstruation begins about age 12-13, along with a growth spurt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rmarch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Male’s first ejaculation at about age 12-13, growth spurt 2 years later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synchrony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Temporary uneven growth of body parts causing clumsiness in teen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1" name="an00965_" descr=""/>
          <p:cNvPicPr/>
          <p:nvPr/>
        </p:nvPicPr>
        <p:blipFill>
          <a:blip r:embed="rId1"/>
          <a:stretch/>
        </p:blipFill>
        <p:spPr>
          <a:xfrm>
            <a:off x="7577280" y="2133720"/>
            <a:ext cx="1566720" cy="2814480"/>
          </a:xfrm>
          <a:prstGeom prst="rect">
            <a:avLst/>
          </a:prstGeom>
          <a:ln w="0">
            <a:noFill/>
          </a:ln>
        </p:spPr>
      </p:pic>
      <p:pic>
        <p:nvPicPr>
          <p:cNvPr id="122" name="pe02317_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1563840" cy="2108160"/>
          </a:xfrm>
          <a:prstGeom prst="rect">
            <a:avLst/>
          </a:prstGeom>
          <a:ln w="0">
            <a:noFill/>
          </a:ln>
        </p:spPr>
      </p:pic>
      <p:pic>
        <p:nvPicPr>
          <p:cNvPr id="123" name="PE02719_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72080" y="1905120"/>
            <a:ext cx="426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roughout childhood, boys and girls are similar in height.  At puberty, girls surge ahead briefly, but then boys overtake them at about age 14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80" y="1447920"/>
            <a:ext cx="4733280" cy="4241520"/>
            <a:chOff x="2880" y="1447920"/>
            <a:chExt cx="4733280" cy="4241520"/>
          </a:xfrm>
        </p:grpSpPr>
        <p:grpSp>
          <p:nvGrpSpPr>
            <p:cNvPr id="126" name=""/>
            <p:cNvGrpSpPr/>
            <p:nvPr/>
          </p:nvGrpSpPr>
          <p:grpSpPr>
            <a:xfrm>
              <a:off x="1344600" y="1898280"/>
              <a:ext cx="3135240" cy="2844720"/>
              <a:chOff x="1344600" y="1898280"/>
              <a:chExt cx="3135240" cy="2844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6459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77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695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313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931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549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167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785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44600" y="21304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4600" y="247860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44600" y="28270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44600" y="31755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44600" y="35236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44600" y="38721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44600" y="42202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4600" y="45687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880" y="1447920"/>
              <a:ext cx="14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Height in 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centimete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5520" y="1941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9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5520" y="2292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7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5520" y="26373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5520" y="29880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3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5520" y="3332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84600" y="3679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84600" y="4026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4600" y="4371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576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3504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840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6116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768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127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21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3168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928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23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3440" y="2270520"/>
              <a:ext cx="3146400" cy="2158200"/>
            </a:xfrm>
            <a:custGeom>
              <a:avLst/>
              <a:gdLst/>
              <a:ahLst/>
              <a:rect l="l" t="t" r="r" b="b"/>
              <a:pathLst>
                <a:path w="2312" h="1648">
                  <a:moveTo>
                    <a:pt x="8" y="1648"/>
                  </a:moveTo>
                  <a:cubicBezTo>
                    <a:pt x="4" y="1615"/>
                    <a:pt x="0" y="1583"/>
                    <a:pt x="56" y="1504"/>
                  </a:cubicBezTo>
                  <a:cubicBezTo>
                    <a:pt x="111" y="1424"/>
                    <a:pt x="248" y="1256"/>
                    <a:pt x="344" y="1168"/>
                  </a:cubicBezTo>
                  <a:cubicBezTo>
                    <a:pt x="440" y="1080"/>
                    <a:pt x="567" y="1024"/>
                    <a:pt x="632" y="976"/>
                  </a:cubicBezTo>
                  <a:cubicBezTo>
                    <a:pt x="696" y="927"/>
                    <a:pt x="696" y="912"/>
                    <a:pt x="728" y="880"/>
                  </a:cubicBezTo>
                  <a:cubicBezTo>
                    <a:pt x="760" y="848"/>
                    <a:pt x="775" y="816"/>
                    <a:pt x="824" y="784"/>
                  </a:cubicBezTo>
                  <a:cubicBezTo>
                    <a:pt x="872" y="751"/>
                    <a:pt x="936" y="719"/>
                    <a:pt x="1016" y="688"/>
                  </a:cubicBezTo>
                  <a:cubicBezTo>
                    <a:pt x="1095" y="656"/>
                    <a:pt x="1216" y="623"/>
                    <a:pt x="1304" y="592"/>
                  </a:cubicBezTo>
                  <a:cubicBezTo>
                    <a:pt x="1391" y="560"/>
                    <a:pt x="1456" y="544"/>
                    <a:pt x="1544" y="496"/>
                  </a:cubicBezTo>
                  <a:cubicBezTo>
                    <a:pt x="1632" y="448"/>
                    <a:pt x="1752" y="367"/>
                    <a:pt x="1832" y="304"/>
                  </a:cubicBezTo>
                  <a:cubicBezTo>
                    <a:pt x="1911" y="240"/>
                    <a:pt x="1976" y="160"/>
                    <a:pt x="2024" y="112"/>
                  </a:cubicBezTo>
                  <a:cubicBezTo>
                    <a:pt x="2072" y="64"/>
                    <a:pt x="2072" y="31"/>
                    <a:pt x="2120" y="16"/>
                  </a:cubicBezTo>
                  <a:cubicBezTo>
                    <a:pt x="2167" y="0"/>
                    <a:pt x="2239" y="8"/>
                    <a:pt x="2312" y="16"/>
                  </a:cubicBezTo>
                </a:path>
              </a:pathLst>
            </a:custGeom>
            <a:noFill/>
            <a:ln w="763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09400" y="2606040"/>
              <a:ext cx="3070080" cy="1886040"/>
            </a:xfrm>
            <a:custGeom>
              <a:avLst/>
              <a:gdLst/>
              <a:ahLst/>
              <a:rect l="l" t="t" r="r" b="b"/>
              <a:pathLst>
                <a:path w="2256" h="1440">
                  <a:moveTo>
                    <a:pt x="0" y="1440"/>
                  </a:moveTo>
                  <a:cubicBezTo>
                    <a:pt x="60" y="1364"/>
                    <a:pt x="120" y="1288"/>
                    <a:pt x="192" y="1200"/>
                  </a:cubicBezTo>
                  <a:cubicBezTo>
                    <a:pt x="264" y="1112"/>
                    <a:pt x="344" y="1000"/>
                    <a:pt x="432" y="912"/>
                  </a:cubicBezTo>
                  <a:cubicBezTo>
                    <a:pt x="520" y="824"/>
                    <a:pt x="632" y="735"/>
                    <a:pt x="720" y="672"/>
                  </a:cubicBezTo>
                  <a:cubicBezTo>
                    <a:pt x="807" y="608"/>
                    <a:pt x="872" y="567"/>
                    <a:pt x="960" y="528"/>
                  </a:cubicBezTo>
                  <a:cubicBezTo>
                    <a:pt x="1047" y="488"/>
                    <a:pt x="1160" y="495"/>
                    <a:pt x="1248" y="432"/>
                  </a:cubicBezTo>
                  <a:cubicBezTo>
                    <a:pt x="1335" y="368"/>
                    <a:pt x="1400" y="207"/>
                    <a:pt x="1488" y="144"/>
                  </a:cubicBezTo>
                  <a:cubicBezTo>
                    <a:pt x="1575" y="80"/>
                    <a:pt x="1648" y="71"/>
                    <a:pt x="1776" y="48"/>
                  </a:cubicBezTo>
                  <a:cubicBezTo>
                    <a:pt x="1903" y="24"/>
                    <a:pt x="2079" y="12"/>
                    <a:pt x="2256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84040" y="505800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Age in yea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17720" y="5372280"/>
              <a:ext cx="195840" cy="1882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2720" y="5372280"/>
              <a:ext cx="195840" cy="188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27240" y="53211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Boy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1320" y="5321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Girl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Tahoma"/>
              </a:rPr>
              <a:t>Girls reach puberty (105 pounds) about 2 years earlier than boy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147840" y="3429000"/>
            <a:ext cx="2743200" cy="2286000"/>
          </a:xfrm>
          <a:prstGeom prst="line">
            <a:avLst/>
          </a:prstGeom>
          <a:ln w="381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528720" y="3123720"/>
            <a:ext cx="2361960" cy="2514600"/>
          </a:xfrm>
          <a:prstGeom prst="line">
            <a:avLst/>
          </a:prstGeom>
          <a:ln w="381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3-21T11:21:21Z</dcterms:modified>
  <cp:revision>191</cp:revision>
  <dc:subject/>
  <dc:title>No Slide Title</dc:title>
</cp:coreProperties>
</file>